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A1E0-8B84-421B-8D86-14FBBE2D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FCBB-28A5-4FE0-BD03-AAE5F005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5E64-6FA6-4E20-8EFD-B807FB73B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9A67-71B1-4A21-A4F4-D76C19106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204C-2603-4D68-A54C-0675EA95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F096-DDDE-46BF-BA71-D1647F70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6B3F-6055-42EB-8D6A-D3C28DEA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2E62-982A-4E37-8B6F-AC653D41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B5BC-7D11-487D-BF1C-A699685B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D5CE-7E4C-44C9-9471-8E8BEA78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7DCF-6D66-4ABD-9DC6-B15A5A17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BCF6-20DE-48D7-AF41-A132C159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5665-AB2C-4366-97BA-73D66D33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94CB-5DCA-4FE4-A9D2-760DDE7A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92F5-EFD2-45CA-9503-B68E5CC9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7561-0D54-48BA-B7BE-1283156B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7487-A41D-4757-ACC6-72070D708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CF4D-6EBD-483D-A193-4F0849F1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F5F0-1999-4164-8E4C-734B9FA9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6402-E598-4EB8-9399-D9698CBD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D067-B804-4780-B11F-BDA5BD54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6463-F04F-4102-A18C-6D7BA615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1272-7E28-47C7-AA4D-7C6F3369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F633-5416-4914-9ED0-38C57001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1A86-25E0-4CB6-9A6C-7B7328D36CF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BB9C-9233-45B0-93F6-B0346304FC0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acrifice Quiz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y: Emma Gorman, Brooke Trujjilo, Zimarya Rucker, Taylor Kim, and May Phan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estion 8, 9, and 1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were the girls expected to do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were the boys expected to d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as the economy bad at the time?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swers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irls were expected to tend the house and cook, clean, and sew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oys were expected to hunt and practice such skills as carpentry or craft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es it was, because most people had to make their own supplies and support their own familys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estion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Verdana"/>
              </a:rPr>
              <a:t>What would people do to a person was accused?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sw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Get arrested, examined, and interrogated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estion 2 and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was the only way you could avoid executed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many people were put to death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swe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ing pregnant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0 peo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estion 4 and 5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was one rule that you couldn’t do in church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were the divisions that existed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swe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n’t talk in church, sit on separate sides of the church etc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lem Town and Salem Villag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estions 6 and 7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o was the Reverend that controlled Salem during 1692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os power was Salem under during the witch trails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swe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verend Samuel Par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was under British Rule!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11:48:01Z</dcterms:created>
  <dc:creator>wks1</dc:creator>
  <dc:description/>
  <dc:language>en-US</dc:language>
  <cp:lastModifiedBy>wks1</cp:lastModifiedBy>
  <dcterms:modified xsi:type="dcterms:W3CDTF">2008-10-17T11:57:43Z</dcterms:modified>
  <cp:revision>2</cp:revision>
  <dc:subject/>
  <dc:title>Sacrifice Quiz!</dc:title>
</cp:coreProperties>
</file>